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C2B-1E42-4AA1-8977-E53E2EAC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E7E-30F8-4776-8997-D6328611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03F-CE64-4248-B4A9-7927E686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782-2643-4D5E-B5F4-F7577760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964-F988-4551-B350-F150840E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762-3B0F-42C3-AFD9-D5773C24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475-E701-425A-9CF2-CE3F9F5A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705-93BA-416F-A7CE-3CAC1410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F7A-02BD-4A83-9F02-EFA89F7B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BD9-6FFA-42F4-97A7-E5F9220F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997-35C3-4C6C-92A1-45C999C7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254-2B3C-4DE8-970C-F9A5BA23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15160" y="942840"/>
            <a:ext cx="129564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20120" y="838080"/>
            <a:ext cx="1352520" cy="93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BF6E-1E98-4C7A-97E6-35C444AC7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304920"/>
            <a:ext cx="7695720" cy="990360"/>
            <a:chOff x="228600" y="304920"/>
            <a:chExt cx="7695720" cy="990360"/>
          </a:xfrm>
        </p:grpSpPr>
        <p:sp>
          <p:nvSpPr>
            <p:cNvPr id="7" name=""/>
            <p:cNvSpPr/>
            <p:nvPr/>
          </p:nvSpPr>
          <p:spPr>
            <a:xfrm>
              <a:off x="302400" y="380880"/>
              <a:ext cx="762192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304920"/>
              <a:ext cx="762228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" name="" descr=""/>
            <p:cNvPicPr/>
            <p:nvPr/>
          </p:nvPicPr>
          <p:blipFill>
            <a:blip r:embed="rId3"/>
            <a:stretch/>
          </p:blipFill>
          <p:spPr>
            <a:xfrm>
              <a:off x="302400" y="380880"/>
              <a:ext cx="730440" cy="8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1116360" y="456480"/>
              <a:ext cx="65120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304920" y="5867280"/>
            <a:ext cx="8534160" cy="762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616040" y="1139760"/>
            <a:ext cx="5724720" cy="228600"/>
          </a:xfrm>
          <a:prstGeom prst="rect">
            <a:avLst/>
          </a:prstGeom>
          <a:solidFill>
            <a:srgbClr val="dce4f0"/>
          </a:solidFill>
          <a:ln w="0">
            <a:noFill/>
          </a:ln>
          <a:effectLst>
            <a:outerShdw dist="127008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ervizio per l’Automazione Informatica e l’Innovazione Tecnolo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efano.deiacobis@istruzione.i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4320" y="1676520"/>
            <a:ext cx="5181480" cy="3855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27240" y="5867280"/>
            <a:ext cx="4876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Arial"/>
              </a:rPr>
              <a:t>Piano Nazionale di Formazione degli Insegna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Arial"/>
              </a:rPr>
              <a:t>su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Arial"/>
              </a:rPr>
              <a:t>Tecnologie dell’Informazione e della Comunicazione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2590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ocenti di base, utenti delle tecnologie per la didattica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(Percorso 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eferenti per l’uso delle risorse tecnologiche e multimediali nella didattica (Percorso B)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esponsabili delle infrastrutture tecnologiche delle scuole o reti di scuole (Percorsi  C1 e C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1520" y="17524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estinat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523880"/>
            <a:ext cx="762012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clutamento dei tutor per il percorso formativ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corso ad una pluralità di soluzion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nivers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stituti di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genzie formative accredi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stituzioni scolastiche (La Direzione regionale produce un elenco di nominativi di docenti aventi titolo per essere nominati tutor d’aula per il percorso formativo B, dal quale i Dirigenti scolastici delle scuole sede di corso attingeran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e Direzioni regionali utilizzeranno come parametri di valutazio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·      esperienze di formazione degli adulti sulle TIC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·      esperienze di integrazione delle TIC nella didatt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·      partecipazione a progetti nazionali o europei sull’integrazione delle TIC nella didatt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·      esperienze di progettazione di attività almeno a livello di istituzione scolast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·      la frequenza di corsi di formazione sulle TI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·      titoli culturali e scientifi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444680"/>
            <a:ext cx="86868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zioni per il Percorso formativo B – Didattica e tecnolog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conduzione dei corsi dovrà tenere presente i seguenti element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gni corsista segue i dieci  moduli indic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loro scansione può essere modificata sulla base di particolari esigenze loc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l corsista deve pervenire ad avere una chiara visione di come utilizzare le TIC nelle seguenti are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rea professionale (aggiornamento della propria preparazion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rea didattica (gestione del processo di apprendiment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rea organizzativo-gestionale (gestione delle altre attività scolastich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particolare finalità di questo intervento formativo richiede che vengano particolarmente enfatizzate la dimensione del lavoro cooperativo e della progettazione. Ciò significa che l’attività d’aula dovrà essere prevalentemente rivolta a discutere su casi ed esperienze così come a progettare linee di azione su cui confrontarsi successiv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l tutor sarà quindi chiamato a svolgere prevalentemente il ruolo di 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timolatore/animatore/controllore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di processi piuttosto che quello di trasmettitore di conoscenze.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600200"/>
            <a:ext cx="67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I E SERVIZI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057400"/>
            <a:ext cx="838188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oduli 1-7 (ECDL) percorso formativ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ateriali del programma INTEL “Teach to the Futur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itograf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Valutazione del software didat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–ITD (CNR di Geno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IBL (database bibliografico selettivo di scienze dell’educazione e didattica delle discipl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For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pazio classe (Classi virtu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ateriali su CD-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oduli 8-14  percorso formativo A (disponibili ad apr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739880"/>
            <a:ext cx="7162920" cy="453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8760" y="41400"/>
            <a:ext cx="78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www.bdp.it                                                           www.indir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850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5024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5308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07360" y="2286000"/>
            <a:ext cx="68529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Giuseppe Maruc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giuseppe.marucci</a:t>
            </a:r>
            <a:r>
              <a:rPr b="0" lang="it-IT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@istruzione.i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ervizio per l’Autom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nformatica e l’Innovazione Tecnolo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7240" y="5867280"/>
            <a:ext cx="4876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Arial"/>
              </a:rPr>
              <a:t>Piano Nazionale di Formazione degli Insegna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Arial"/>
              </a:rPr>
              <a:t>su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Arial"/>
              </a:rPr>
              <a:t>Tecnologie dell’Informazione e della Comunicazione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1371600"/>
            <a:ext cx="6858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21 maggio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Circolare Ministeriale n. 55</a:t>
            </a:r>
            <a:br>
              <a:rPr sz="2400"/>
            </a:b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(Servizio per l'Automazione Informatica e l'Innovazione Tecnolog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60199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Cro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21320" y="3429000"/>
            <a:ext cx="315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nee G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ercorso formativ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ercorso formativ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ercorso formativ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lega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lega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666880"/>
            <a:ext cx="693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iano Nazionale di Formazione degli Insegnanti su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ecnologie dell’Informazione e della Comunicazion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5120" y="259092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199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Cro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47920"/>
            <a:ext cx="830592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28 ottobre 20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ttera Circolare n. 116 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Servizio per l'Automazione Informatica e l'Innovazione Tecnologica e Direzione generale per la Formazione e l'Aggiornamento del personale della scuo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dattamenti per le iniziative di innovazione in corso (Rifor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ivilegiare la formazione dei docenti dell’infanzia e prim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zioni formative sulla alfabetizzazione informatica per i docenti delle scuole dell'infanzia e primaria, presso cui è in atto il progetto di sperimentazione di cui al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M 100/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rettiva n° 74/2002 -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pertura anche al personale delle scuole parita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ffidamento a INDIRE dei materiali del Percors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ffidamento a INVALSI della gestione delle iscr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752480"/>
            <a:ext cx="79250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ota del 3 dicembr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(Servizio per l'Automazione Informatica e l'Innovazione Tecnolog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serimento dei docenti di religione tra i destinatari del piano di 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recisazione sull’intervento formativo del personale ATA (percorso C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iziative di formazione e materiali in rete disponibili anche per i docenti delle scuole parit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0199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Cro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400" y="1523880"/>
            <a:ext cx="89154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News del 5 dicembre 2002</a:t>
            </a:r>
            <a:br>
              <a:rPr sz="2000"/>
            </a:b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(Servizio per l'Automazione Informatica e l'Innovazione Tecnolog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pertura Forum riservato ai referenti regionali per il progetto For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8120"/>
            <a:ext cx="762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Lo scopo del Forum è quello di coordinare e agevolare l'avvio e la conduzione delle attività formative inerenti il Piano. E' evidente che il Forum offrirà un'opportunità di scambio di idee, confronto di esperienze che si immagina proficuo e potrà costituire il luogo dove affrontare problemi e difficoltà che dovessero insorgere nel corso delle attività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' prevista la partecipazione di tre referenti per reg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60199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Cro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828800"/>
            <a:ext cx="739116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ota del 27 gennaio 2003</a:t>
            </a:r>
            <a:br>
              <a:rPr sz="1800"/>
            </a:b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(Servizio per l'Automazione Informatica e l'Innovazione Tecnolog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uggerimenti sui servizi on line sulla piattaforma I.N.D.I.R.E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rum di discussione, moderati dalle diverse Associazioni Disciplinari degli Insegna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lezione di siti di interesse specifico per l’approfondimento delle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ccesso ai materiali prodotti da Intel (Teach to the Fu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pazio classe che sarà a disposizione di ciascun tu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rsi on line, esemplificazioni didattiche e test di autoval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60199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Cro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2895480"/>
            <a:ext cx="68310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al 27/01/2003, è disponibile sul sito dell'I.N.D.I.R.E. la piattaforma on line con i primi materiali e i servizi a supporto dell'attività di formazione relativi al percorso A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ocenti e tutor coinvolti nelle attività, che siano già in possesso della password fornita da INVALSI, possono iniziare a visionare i materi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00200"/>
            <a:ext cx="7620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News del 28 gennaio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 via il Piano di Formazione degli insegnanti sulle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60199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Cro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1523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Nota del 31 gennaio 2003</a:t>
            </a:r>
            <a:br>
              <a:rPr sz="2000"/>
            </a:b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(Servizio per l'Automazione Informatica e l'Innovazione Tecnolog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2666880"/>
            <a:ext cx="6858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Ammissione corsisti al percorso formativ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Numero dei corsisti stimati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4500-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Numero delle richieste pervenute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7860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fino a genna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Indicazioni per D.S.R. affinchè fossero individuate soluzioni per l’accoglimento di tutte le dom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60199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Cro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08:40:27Z</dcterms:created>
  <dc:creator>Min.Istr.Univ.Ric.</dc:creator>
  <dc:description/>
  <dc:language>en-US</dc:language>
  <cp:lastModifiedBy>Claudia Valentini</cp:lastModifiedBy>
  <dcterms:modified xsi:type="dcterms:W3CDTF">2003-03-24T12:28:27Z</dcterms:modified>
  <cp:revision>55</cp:revision>
  <dc:subject/>
  <dc:title>Nessun titolo diapositiva</dc:title>
</cp:coreProperties>
</file>